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90C23-BB3F-4DFB-86FF-1D74E6F1149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57A1-9CFB-40E3-A82F-B9D33D60B6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57E8-055D-46BB-95E9-B6F889C4BA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B2F2A-52D3-416B-B3D3-10790CEF7E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8C0F6-0FEE-494A-B634-A63B4B5549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F593B-B5EF-4789-AE37-DB25204842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23354-5231-45D0-AE39-7EF66008A2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B2EA1-6357-47C4-876C-4957804D63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F334E-C8C7-46A7-BAC4-056FE7F092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82378-E07F-4CC0-97EE-E29D3C2E7F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2C3D-B9FD-4CEF-9119-EE43611022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8B08-9372-4797-B155-DB510ECEE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F4F9-F77B-429A-92AF-8E37E904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9D8E-AB04-4FB0-AEDF-28E29331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88C8-312D-45B0-9CB9-17A17612C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8238-47AA-4998-93FF-BD432C2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6F15-731F-44C3-BD47-D41B6FB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576A-1CE1-442A-A4E4-8F3967E5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8102-7B3A-4047-A553-2D017856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F0A2-F2D1-4450-9082-913D647F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5533-CAD4-47FC-99FD-F497F2C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C5F4-20C9-4D70-AF63-C42EF997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593F-0386-49D4-825F-B12E6D11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8B308E-FC3E-47CE-B9BA-40E943B6D34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224000"/>
            <a:ext cx="374472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ísico, teólogo, inventor y alquimista inglés nacido en 164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o de los primeros investigadores en postular que la composición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era diferente a la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ndo su famosa ley de la gravedad, dedujo qu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teriales del interior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debían tener aproximadamente el doble de densidad que los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perfic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saac New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48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9 CuadroTexto"/>
          <p:cNvSpPr/>
          <p:nvPr/>
        </p:nvSpPr>
        <p:spPr>
          <a:xfrm>
            <a:off x="457200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1197000"/>
            <a:ext cx="4284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eorólogo y sismólogo nacido en Croacia en 185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zo importantes estudios sobr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lima, pero pasaría a la historia por descubrir la discontinuidad que separa la corteza del manto, siendo el primer científico en descubrir una de las discontinuidades entre las capas del interior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ideas no fueron comprendidas ni aceptadas hasta muchos años despu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drija Mohorovic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73440" cy="5052960"/>
          </a:xfrm>
          <a:prstGeom prst="rect">
            <a:avLst/>
          </a:prstGeom>
          <a:ln w="0">
            <a:noFill/>
          </a:ln>
        </p:spPr>
      </p:pic>
      <p:sp>
        <p:nvSpPr>
          <p:cNvPr id="80" name="9 CuadroTexto"/>
          <p:cNvSpPr/>
          <p:nvPr/>
        </p:nvSpPr>
        <p:spPr>
          <a:xfrm>
            <a:off x="5219640" y="59500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drija Mohorovic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9640" y="1628640"/>
            <a:ext cx="45370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o alemán nacido en 18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octoró a los 22 años, y a los 25 ya había realizado el descubrimiento por el que pasaría a la historia, la discontinuidad entre el manto y el núcle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es conocido por ser uno de los que creó, junto a Charles Ritcher, la famosa escala Ritcher para medi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tensidad de los seís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eno Gut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16360" cy="5241960"/>
          </a:xfrm>
          <a:prstGeom prst="rect">
            <a:avLst/>
          </a:prstGeom>
          <a:ln w="0">
            <a:noFill/>
          </a:ln>
        </p:spPr>
      </p:pic>
      <p:sp>
        <p:nvSpPr>
          <p:cNvPr id="89" name="9 CuadroTexto"/>
          <p:cNvSpPr/>
          <p:nvPr/>
        </p:nvSpPr>
        <p:spPr>
          <a:xfrm>
            <a:off x="5003640" y="6021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o Gutenbe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cubridores de discontinu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992160"/>
            <a:ext cx="4824360" cy="52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móloga y matemática danesa nacida en 188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28 fue declarada jefa del departamento de sismología del Real Instituto Geodésico Danés, donde ejerció su profesión durante 25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36 publicó el descubrimient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scontinuidad que separa el núcleo externo (fundido), del interno (sól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ió en1993, a los 104 años de edad, tras una vida llena de aportes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ología. Tales fueron sus méritos que en 1995 se crea la medalla Lehmann, otorgada a los que hacen grandes aportes al descubrimiento de la estructura de la Tier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620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Inge Leh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70520"/>
          </a:xfrm>
          <a:prstGeom prst="rect">
            <a:avLst/>
          </a:prstGeom>
          <a:ln w="0">
            <a:noFill/>
          </a:ln>
        </p:spPr>
      </p:pic>
      <p:sp>
        <p:nvSpPr>
          <p:cNvPr id="98" name="9 CuadroTexto"/>
          <p:cNvSpPr/>
          <p:nvPr/>
        </p:nvSpPr>
        <p:spPr>
          <a:xfrm>
            <a:off x="5364000" y="59500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 Lehm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2T09:50:18Z</dcterms:modified>
  <cp:revision>47</cp:revision>
  <dc:subject/>
  <dc:title>Diapositiva 1</dc:title>
</cp:coreProperties>
</file>